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941-56BC-4F99-B536-2C2E9787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327-C70E-4834-8A76-56AD36F4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503-5B32-4287-8A47-5F0D90F1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5A6-1C8F-418C-AB60-E17CBB2C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F9F-BA61-414F-9628-32826437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F8C-B9C4-41A2-84A1-0DC11C3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9A0-C985-4224-AB23-D82B8D3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EF1-5523-4E6B-A235-9A4CB0B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24E-5B34-4C52-BD39-E31DEC4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28E-B114-4759-A176-0970DAD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434-8988-490C-9448-82F429A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70E-B0F8-434A-AC62-19DDC62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C886-7FCF-49A8-9076-D67B4057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240" y="1219320"/>
            <a:ext cx="906444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W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HA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MAKES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I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F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LK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S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NG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?</a:t>
            </a:r>
            <a:br>
              <a:rPr sz="4800"/>
            </a:b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 </a:t>
            </a: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    </a:t>
            </a:r>
            <a:r>
              <a:rPr b="1" lang="en-US" sz="3500" spc="-1" strike="noStrike" u="sng">
                <a:solidFill>
                  <a:srgbClr val="333333"/>
                </a:solidFill>
                <a:uFillTx/>
                <a:latin typeface="Georgia"/>
              </a:rPr>
              <a:t>ALL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OF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THES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MUST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B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TRU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3149640"/>
            <a:ext cx="64594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I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HA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NO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KNOW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COMPOSE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M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A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N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VERSIO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ONG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EXIST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 (W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D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ELODY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DIFFEREN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BU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TILL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RECOGNIZABL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I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ERVE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PURPOS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T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CULTU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THE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A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AKING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ONEY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